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BD5-F86F-464F-8AC5-6F44A5B4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988-5486-4B90-8478-B9E24E0A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C61-D07A-4530-9EDE-9A4AF3E6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2A9-F5C6-488B-BC2B-52FA7335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A7B-6A24-4ED9-806C-B1A6708C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311-37E0-4CD9-83D3-93AACC3D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5D2-6CCC-468B-80CE-B806DB67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297-2F5A-4FAC-BECD-512E9BF7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6E2-B0BC-41F2-81CA-54626A71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07E1-B356-4825-AFA3-5853EA20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CC2-DBB3-4294-91B6-7BD57ED5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4F7-D9E3-43FA-A9E5-DD61C5BD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8A39-0B4F-4B20-918F-508DCF1B0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ts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657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nion and Intersectio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76320" y="0"/>
            <a:ext cx="3962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=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=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6880" y="152280"/>
            <a:ext cx="685800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{6,12}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{2,3,4,6,8,9,10,12,14,15}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{10,15}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{2,4,5,6,8,10,12,14,15}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2,3,4,5,6,8,9,10,12,14,15}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Key Point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et Not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enn Diagra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mpty Se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{ }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x. Set A={2,4,6,8,10,12,…}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- infinite set (never ends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x. Set B={2,4,6,8,10,12}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- finite set (has a certain amount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x. Set C={…,2,4,6,8,10,12,…}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- infinite set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Venn Diagram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sed to visually represent sets of d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 organization of data using overlapping circ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ta gathered in se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ts can be made up of numbers, amounts, et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sing the following sets create a Venn Diagra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 Se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t A = {3,6,9,12,15}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t B = {2,4,6,8,10,12,14}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t C = {5,10,15}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5"/>
          <p:cNvSpPr/>
          <p:nvPr/>
        </p:nvSpPr>
        <p:spPr>
          <a:xfrm>
            <a:off x="2743200" y="304920"/>
            <a:ext cx="3581280" cy="335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6"/>
          <p:cNvSpPr/>
          <p:nvPr/>
        </p:nvSpPr>
        <p:spPr>
          <a:xfrm>
            <a:off x="4419720" y="2209680"/>
            <a:ext cx="3657600" cy="3810240"/>
          </a:xfrm>
          <a:prstGeom prst="ellipse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7"/>
          <p:cNvSpPr/>
          <p:nvPr/>
        </p:nvSpPr>
        <p:spPr>
          <a:xfrm>
            <a:off x="1371600" y="2286000"/>
            <a:ext cx="3962520" cy="3657600"/>
          </a:xfrm>
          <a:prstGeom prst="ellips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52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t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54380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t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705720" y="380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t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6058080" y="762120"/>
            <a:ext cx="324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3,6,9,12,15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00240" y="5867280"/>
            <a:ext cx="436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2,4,6,8,10,12,14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6822000" y="5867280"/>
            <a:ext cx="239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5,10,15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"/>
          <p:cNvSpPr/>
          <p:nvPr/>
        </p:nvSpPr>
        <p:spPr>
          <a:xfrm>
            <a:off x="2743200" y="228600"/>
            <a:ext cx="3581280" cy="342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"/>
          <p:cNvSpPr/>
          <p:nvPr/>
        </p:nvSpPr>
        <p:spPr>
          <a:xfrm>
            <a:off x="4419720" y="2209680"/>
            <a:ext cx="3809880" cy="3810240"/>
          </a:xfrm>
          <a:prstGeom prst="ellipse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4"/>
          <p:cNvSpPr/>
          <p:nvPr/>
        </p:nvSpPr>
        <p:spPr>
          <a:xfrm>
            <a:off x="1295280" y="2286000"/>
            <a:ext cx="4038840" cy="3657600"/>
          </a:xfrm>
          <a:prstGeom prst="ellips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t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543800" y="5562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t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94360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t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86200" y="7621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257800" y="23623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419720" y="37339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6172200" y="38098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352680" y="2438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,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1981080" y="37339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4,8,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ymbol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llowing symbols can be used with Venn Diagrams and S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s that are in either or and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number listed in order o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Interse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mbers that are in b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 – empty s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et with no val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sing the number sets from before find the following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0" y="22096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. A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B =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. A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B =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. A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C = 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. B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C =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5.A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 =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.A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 =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21:08:01Z</dcterms:created>
  <dc:creator>Teacher</dc:creator>
  <dc:description/>
  <dc:language>en-US</dc:language>
  <cp:lastModifiedBy>Lauren Senske</cp:lastModifiedBy>
  <dcterms:modified xsi:type="dcterms:W3CDTF">2009-09-01T21:45:50Z</dcterms:modified>
  <cp:revision>8</cp:revision>
  <dc:subject/>
  <dc:title>Sets </dc:title>
</cp:coreProperties>
</file>